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6.png" ContentType="image/png"/>
  <Override PartName="/ppt/media/image19.jpeg" ContentType="image/jpeg"/>
  <Override PartName="/ppt/media/image38.jpeg" ContentType="image/jpeg"/>
  <Override PartName="/ppt/media/image40.jpeg" ContentType="image/jpeg"/>
  <Override PartName="/ppt/media/image9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50.png" ContentType="image/png"/>
  <Override PartName="/ppt/media/image37.jpeg" ContentType="image/jpeg"/>
  <Override PartName="/ppt/media/image11.png" ContentType="image/png"/>
  <Override PartName="/ppt/media/image48.png" ContentType="image/png"/>
  <Override PartName="/ppt/media/image31.jpeg" ContentType="image/jpeg"/>
  <Override PartName="/ppt/media/image41.png" ContentType="image/png"/>
  <Override PartName="/ppt/media/image53.jpeg" ContentType="image/jpeg"/>
  <Override PartName="/ppt/media/image55.png" ContentType="image/png"/>
  <Override PartName="/ppt/media/image56.png" ContentType="image/png"/>
  <Override PartName="/ppt/media/image59.jpeg" ContentType="image/jpeg"/>
  <Override PartName="/ppt/media/image30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8.png" ContentType="image/png"/>
  <Override PartName="/ppt/media/image3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rde 3"/>
          <p:cNvSpPr/>
          <p:nvPr/>
        </p:nvSpPr>
        <p:spPr>
          <a:xfrm>
            <a:off x="7753320" y="4875120"/>
            <a:ext cx="6586560" cy="2016360"/>
          </a:xfrm>
          <a:custGeom>
            <a:avLst/>
            <a:gdLst/>
            <a:ahLst/>
            <a:rect l="l" t="t" r="r" b="b"/>
            <a:pathLst>
              <a:path w="6586538" h="2016125">
                <a:moveTo>
                  <a:pt x="4257185" y="1971978"/>
                </a:moveTo>
                <a:cubicBezTo>
                  <a:pt x="3635959" y="2030184"/>
                  <a:pt x="2972368" y="2030847"/>
                  <a:pt x="2349915" y="1973882"/>
                </a:cubicBezTo>
                <a:cubicBezTo>
                  <a:pt x="-750788" y="1690117"/>
                  <a:pt x="-794456" y="350849"/>
                  <a:pt x="2287126" y="48197"/>
                </a:cubicBezTo>
                <a:cubicBezTo>
                  <a:pt x="2906549" y="-12639"/>
                  <a:pt x="3570958" y="-15958"/>
                  <a:pt x="4196537" y="38657"/>
                </a:cubicBezTo>
                <a:lnTo>
                  <a:pt x="4257185" y="19719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1799720" y="0"/>
            <a:ext cx="392400" cy="6888240"/>
          </a:xfrm>
          <a:prstGeom prst="rect">
            <a:avLst/>
          </a:prstGeom>
          <a:solidFill>
            <a:srgbClr val="ff9900"/>
          </a:solidFill>
          <a:ln cap="rnd"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11317320" y="0"/>
            <a:ext cx="482400" cy="6138720"/>
          </a:xfrm>
          <a:prstGeom prst="rect">
            <a:avLst/>
          </a:prstGeom>
          <a:solidFill>
            <a:srgbClr val="00ccff"/>
          </a:solidFill>
          <a:ln cap="rnd"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29480" y="6488280"/>
            <a:ext cx="46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7f7f7f"/>
                </a:solidFill>
                <a:latin typeface="Trebuchet MS"/>
              </a:rPr>
              <a:t>Document établi sur une création de la Ligue Nord – Pas de Calais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552600"/>
            <a:ext cx="11399760" cy="1440"/>
          </a:xfrm>
          <a:prstGeom prst="line">
            <a:avLst/>
          </a:prstGeom>
          <a:ln cap="rnd"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0" y="33480"/>
            <a:ext cx="11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rebuchet MS"/>
              </a:rPr>
              <a:t>LIGUE Midi Pyrénées de HOCKE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Freeform 8"/>
          <p:cNvSpPr/>
          <p:nvPr/>
        </p:nvSpPr>
        <p:spPr>
          <a:xfrm rot="10800000">
            <a:off x="10389960" y="5417640"/>
            <a:ext cx="1409400" cy="1473480"/>
          </a:xfrm>
          <a:custGeom>
            <a:avLst/>
            <a:gdLst/>
            <a:ahLst/>
            <a:rect l="l" t="t" r="r" b="b"/>
            <a:pathLst>
              <a:path w="1409203" h="1472540">
                <a:moveTo>
                  <a:pt x="0" y="736270"/>
                </a:moveTo>
                <a:cubicBezTo>
                  <a:pt x="0" y="329639"/>
                  <a:pt x="315461" y="0"/>
                  <a:pt x="704602" y="0"/>
                </a:cubicBezTo>
                <a:cubicBezTo>
                  <a:pt x="1093743" y="0"/>
                  <a:pt x="1409204" y="329639"/>
                  <a:pt x="1409204" y="736270"/>
                </a:cubicBezTo>
                <a:lnTo>
                  <a:pt x="926269" y="736270"/>
                </a:lnTo>
                <a:cubicBezTo>
                  <a:pt x="926269" y="596356"/>
                  <a:pt x="827025" y="482934"/>
                  <a:pt x="704601" y="482934"/>
                </a:cubicBezTo>
                <a:cubicBezTo>
                  <a:pt x="582177" y="482934"/>
                  <a:pt x="482933" y="596356"/>
                  <a:pt x="482933" y="736270"/>
                </a:cubicBezTo>
                <a:lnTo>
                  <a:pt x="0" y="736270"/>
                </a:lnTo>
                <a:close/>
              </a:path>
            </a:pathLst>
          </a:custGeom>
          <a:solidFill>
            <a:srgbClr val="00ccff"/>
          </a:solidFill>
          <a:ln cap="rnd" w="1908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Oval 9"/>
          <p:cNvSpPr/>
          <p:nvPr/>
        </p:nvSpPr>
        <p:spPr>
          <a:xfrm>
            <a:off x="10390320" y="5842080"/>
            <a:ext cx="511200" cy="487440"/>
          </a:xfrm>
          <a:prstGeom prst="ellipse">
            <a:avLst/>
          </a:prstGeom>
          <a:solidFill>
            <a:srgbClr val="00ccff"/>
          </a:solidFill>
          <a:ln cap="rnd"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64600" y="5842080"/>
            <a:ext cx="1055880" cy="92376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5308560" y="6416640"/>
            <a:ext cx="608040" cy="441360"/>
          </a:xfrm>
          <a:prstGeom prst="rect">
            <a:avLst/>
          </a:prstGeom>
          <a:ln w="0">
            <a:noFill/>
          </a:ln>
        </p:spPr>
      </p:pic>
      <p:pic>
        <p:nvPicPr>
          <p:cNvPr id="10" name="Image 5" descr=""/>
          <p:cNvPicPr/>
          <p:nvPr/>
        </p:nvPicPr>
        <p:blipFill>
          <a:blip r:embed="rId3"/>
          <a:stretch/>
        </p:blipFill>
        <p:spPr>
          <a:xfrm>
            <a:off x="9429840" y="5883120"/>
            <a:ext cx="725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0" t="30153" r="0" b="28137"/>
          <a:stretch/>
        </p:blipFill>
        <p:spPr>
          <a:xfrm>
            <a:off x="1333440" y="5013360"/>
            <a:ext cx="3106800" cy="1295280"/>
          </a:xfrm>
          <a:prstGeom prst="rect">
            <a:avLst/>
          </a:prstGeom>
          <a:ln w="0">
            <a:noFill/>
          </a:ln>
        </p:spPr>
      </p:pic>
      <p:sp>
        <p:nvSpPr>
          <p:cNvPr id="48" name="ZoneTexte 1"/>
          <p:cNvSpPr/>
          <p:nvPr/>
        </p:nvSpPr>
        <p:spPr>
          <a:xfrm>
            <a:off x="1271520" y="2205000"/>
            <a:ext cx="86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800" spc="-1" strike="noStrike">
                <a:solidFill>
                  <a:srgbClr val="ff9900"/>
                </a:solidFill>
                <a:latin typeface="Trebuchet MS"/>
              </a:rPr>
              <a:t>Comprendre les règles et les gestes arbitraux d’un match de HOCKEY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871880" y="79200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920960" y="3068640"/>
            <a:ext cx="7767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9900"/>
                </a:solidFill>
                <a:latin typeface="Trebuchet MS"/>
              </a:rPr>
              <a:t>LES FAUTES DE JEU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2400" spc="-1" strike="noStrike">
                <a:solidFill>
                  <a:srgbClr val="ff9900"/>
                </a:solidFill>
                <a:latin typeface="Trebuchet MS"/>
              </a:rPr>
              <a:t>Ce que vous ne pouvez pas faire pendant un match!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024600" y="765000"/>
            <a:ext cx="2736720" cy="165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rcRect l="0" t="0" r="0" b="29202"/>
          <a:stretch/>
        </p:blipFill>
        <p:spPr>
          <a:xfrm>
            <a:off x="1488960" y="4581360"/>
            <a:ext cx="5256360" cy="122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216240" y="765000"/>
            <a:ext cx="276228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071880" y="2637000"/>
            <a:ext cx="41846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900" spc="-1" strike="noStrike">
                <a:solidFill>
                  <a:srgbClr val="404040"/>
                </a:solidFill>
                <a:latin typeface="Trebuchet MS"/>
              </a:rPr>
              <a:t>Vous ne pouvez pas jouer la balle avec votre crosse de manière dangereuse.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900" spc="-1" strike="noStrike">
                <a:solidFill>
                  <a:srgbClr val="404040"/>
                </a:solidFill>
                <a:latin typeface="Trebuchet MS"/>
              </a:rPr>
              <a:t>Vous ne pouvez pas avec votre crosse faire barrage à l’adversaire.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900" spc="-1" strike="noStrike">
                <a:solidFill>
                  <a:srgbClr val="404040"/>
                </a:solidFill>
                <a:latin typeface="Trebuchet MS"/>
              </a:rPr>
              <a:t>Ces fautes de comportement peuvent être sanctionnées par un carton.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79520" y="2781360"/>
            <a:ext cx="2236680" cy="2828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7248600" y="3500280"/>
            <a:ext cx="4186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L’arbitre fait un rappel à l’ordre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1488960" y="836640"/>
            <a:ext cx="453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fautes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tenue de crosse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2"/>
          <a:srcRect l="4661" t="0" r="19728" b="0"/>
          <a:stretch/>
        </p:blipFill>
        <p:spPr>
          <a:xfrm>
            <a:off x="8113680" y="1484280"/>
            <a:ext cx="216072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3"/>
          <a:stretch/>
        </p:blipFill>
        <p:spPr>
          <a:xfrm>
            <a:off x="4297320" y="486900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505320" y="3860640"/>
            <a:ext cx="41846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V</a:t>
            </a:r>
            <a:r>
              <a:rPr b="0" lang="fr-FR" sz="1900" spc="-1" strike="noStrike">
                <a:solidFill>
                  <a:srgbClr val="404040"/>
                </a:solidFill>
                <a:latin typeface="Trebuchet MS"/>
              </a:rPr>
              <a:t>ous ne pouvez pas jouer la balle avec le côté arrondi de la crosse.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63520" y="2997360"/>
            <a:ext cx="312588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7608960" y="1557360"/>
            <a:ext cx="36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Taper le dos de la main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8329680" y="2492280"/>
            <a:ext cx="2065320" cy="1874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1488960" y="836640"/>
            <a:ext cx="453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fautes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Backstick ou Côté rond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079880" y="2205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3287880" y="4797360"/>
            <a:ext cx="4184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Vous ne pouvez pas toucher la balle avec le pied ni aucune partie du corps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07880" y="2421000"/>
            <a:ext cx="2865600" cy="3083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7248600" y="4292640"/>
            <a:ext cx="3752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L’arbitre touch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montre son pied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8472600" y="1125360"/>
            <a:ext cx="1512720" cy="2360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1488960" y="836640"/>
            <a:ext cx="453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fautes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pied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07880" y="3284640"/>
            <a:ext cx="2830680" cy="2847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7176960" y="4149720"/>
            <a:ext cx="4184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Croiser les avants bras devant la poitrine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8256600" y="1341360"/>
            <a:ext cx="2266920" cy="2632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"/>
          <p:cNvSpPr/>
          <p:nvPr/>
        </p:nvSpPr>
        <p:spPr>
          <a:xfrm>
            <a:off x="1488960" y="836640"/>
            <a:ext cx="453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fautes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obstruction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3000240" y="2492280"/>
            <a:ext cx="41846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Vous ne pouvez pas placer volontairement votre corps, votre crosse, ou une partie de votre corps entre la balle et le joueur adverse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3144960" y="2349360"/>
            <a:ext cx="4184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Vous ne pouvez pas gêner * un adversaire pour aider un partenaire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96960" y="3213000"/>
            <a:ext cx="3616200" cy="2360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7032600" y="3716280"/>
            <a:ext cx="4186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Croiser et décroiser alternativement les bras devant la poitrine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7969320" y="1125360"/>
            <a:ext cx="2316240" cy="25624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792000" y="5759280"/>
            <a:ext cx="352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* écra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1488960" y="836640"/>
            <a:ext cx="453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fautes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obstruction à 3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984240" y="2349360"/>
            <a:ext cx="4340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Vous ne pouvez ni frapper, ni pousser, ni tirer un adversaire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07880" y="3429000"/>
            <a:ext cx="3370320" cy="2838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5376960" y="479736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Siffler et faire un mouvement d’apaisement avec la main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796080" y="1228680"/>
            <a:ext cx="3309840" cy="2927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"/>
          <p:cNvSpPr/>
          <p:nvPr/>
        </p:nvSpPr>
        <p:spPr>
          <a:xfrm>
            <a:off x="1488960" y="836640"/>
            <a:ext cx="453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fautes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jeu brutal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3287880" y="2349360"/>
            <a:ext cx="418608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Vous ne pouvez pas jouer la balle de façon dangereuse vers un autre joueur, tolérance jusqu’au genou.</a:t>
            </a: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63520" y="2852640"/>
            <a:ext cx="3014640" cy="3602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5923080" y="5114880"/>
            <a:ext cx="4184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Siffler et faire un mouvement d’apaisement avec la main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7824960" y="1341360"/>
            <a:ext cx="2763720" cy="2444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1488960" y="836640"/>
            <a:ext cx="453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fautes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jeu dangereux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2600" y="3193920"/>
            <a:ext cx="3095640" cy="2722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6961320" y="4005360"/>
            <a:ext cx="4186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Imiter le coup sur la crosse en se frappant l’avant-bra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8185320" y="1484280"/>
            <a:ext cx="2004840" cy="2114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1488960" y="836640"/>
            <a:ext cx="453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fautes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ccrochage de crosse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3432240" y="2421000"/>
            <a:ext cx="31528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Vous ne pouvez ni accrocher, ni frapper la crosse d’un adversaire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2496960" y="220500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Vous devez parler correctement sur le terrain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68240" y="3284640"/>
            <a:ext cx="2597400" cy="3143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6961320" y="414972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Placer le doigt sur la bouche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8256600" y="1413000"/>
            <a:ext cx="1919160" cy="2517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1488960" y="836640"/>
            <a:ext cx="453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fautes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ngage grossi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360600" y="3284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Un mauvais comportement peut être sanctionné par un carton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3"/>
          <a:stretch/>
        </p:blipFill>
        <p:spPr>
          <a:xfrm>
            <a:off x="4440240" y="422100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0" y="2349360"/>
            <a:ext cx="38545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990033"/>
                </a:solidFill>
                <a:latin typeface="Trebuchet MS"/>
              </a:rPr>
              <a:t>Le terrain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imensions et marquag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36600" y="4724280"/>
            <a:ext cx="3314520" cy="138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3863880" y="907920"/>
            <a:ext cx="6985080" cy="3918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271520" y="2781360"/>
            <a:ext cx="7767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9900"/>
                </a:solidFill>
                <a:latin typeface="Trebuchet MS"/>
              </a:rPr>
              <a:t>Les sorties de balle en dehors du terrain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336600" y="4581360"/>
            <a:ext cx="3744720" cy="1479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8040600" y="765000"/>
            <a:ext cx="2781360" cy="1648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847880" y="2421000"/>
            <a:ext cx="4184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En touche (derrière les lignes de côté) 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676440" y="2736720"/>
            <a:ext cx="418464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La touche est effectuée sur la ligne, à l’endroit où la balle est sortie.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Tous les adversaires sont à plus de 5 mètres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88240" y="414972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Indiquer avec le bras </a:t>
            </a: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sens dans lequel il faut jou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7824960" y="1268280"/>
            <a:ext cx="2476440" cy="24418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1488960" y="836640"/>
            <a:ext cx="590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sorties de balle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touche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709640" y="2468520"/>
            <a:ext cx="4184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Au-delà de la ligne de fond, par un attaquant :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676440" y="2736720"/>
            <a:ext cx="418464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Dégagement au niveau de la tête de cercle, en face de l’endroit où la balle est sortie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Tous les adversaires sont à plus de 5 mètres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7969320" y="1268280"/>
            <a:ext cx="3027240" cy="251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"/>
          <p:cNvSpPr/>
          <p:nvPr/>
        </p:nvSpPr>
        <p:spPr>
          <a:xfrm>
            <a:off x="1488960" y="836640"/>
            <a:ext cx="590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sorties de balle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dégagement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592600" y="436572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Etendre les bras horizontalement et dans les sens opposés, dos à la ligne de but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2208240" y="1844640"/>
            <a:ext cx="4184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Au-delà de la ligne de fond, accidentellement par un défenseur 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696960" y="2781360"/>
            <a:ext cx="418464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Corner joué sur la ligne des 22 mètres au niveau de la sortie de balle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TOUS les autres joueurs sont à plus de 5 mètres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Dans tous les cas, la balle peut être remise en jeu par une passe ou une auto-passe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456240" y="436572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Pointer le doigt vers le coin du côté où la balle est sortie et vers la ligne des 22m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821720" y="1228680"/>
            <a:ext cx="2570040" cy="2484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1488960" y="836640"/>
            <a:ext cx="590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sorties de balle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long corn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92240" y="5805360"/>
            <a:ext cx="73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400" spc="-1" strike="noStrike">
                <a:solidFill>
                  <a:srgbClr val="a50021"/>
                </a:solidFill>
                <a:latin typeface="Trebuchet MS"/>
              </a:rPr>
              <a:t>Une balle sortie au-delà de la ligne fond volontairement par un défenseur est sanctionnée par un petit corner.</a:t>
            </a:r>
            <a:r>
              <a:rPr b="0" i="1" lang="fr-FR" sz="1800" spc="-1" strike="noStrike">
                <a:solidFill>
                  <a:srgbClr val="5f5f5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3792600" y="2924280"/>
            <a:ext cx="4105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9900"/>
                </a:solidFill>
                <a:latin typeface="Trebuchet MS"/>
              </a:rPr>
              <a:t>Les coup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9900"/>
                </a:solidFill>
                <a:latin typeface="Trebuchet MS"/>
              </a:rPr>
              <a:t>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ff9900"/>
                </a:solidFill>
                <a:latin typeface="Trebuchet MS"/>
              </a:rPr>
              <a:t>Pénalité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984240" y="4581360"/>
            <a:ext cx="3240000" cy="156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1992240" y="765000"/>
            <a:ext cx="1728720" cy="119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3"/>
          <a:stretch/>
        </p:blipFill>
        <p:spPr>
          <a:xfrm>
            <a:off x="479520" y="2421000"/>
            <a:ext cx="2305080" cy="1652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4"/>
          <a:stretch/>
        </p:blipFill>
        <p:spPr>
          <a:xfrm>
            <a:off x="8113680" y="765000"/>
            <a:ext cx="2847960" cy="1609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5"/>
          <a:stretch/>
        </p:blipFill>
        <p:spPr>
          <a:xfrm>
            <a:off x="8040600" y="2708280"/>
            <a:ext cx="3133800" cy="145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6"/>
          <a:stretch/>
        </p:blipFill>
        <p:spPr>
          <a:xfrm>
            <a:off x="6024600" y="836640"/>
            <a:ext cx="1878120" cy="1427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23880" y="1989000"/>
            <a:ext cx="4680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ourquoi ?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lvl="1" marL="7412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Pour toute faute involontaire commise à n’importe quel endroit du terrain sauf dans les cercles.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Comment ?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lvl="1" marL="7412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A l’endroit de la faute.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lvl="1" marL="7412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En passe ou autopasse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lvl="1" marL="7412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Balle </a:t>
            </a:r>
            <a:r>
              <a:rPr b="1" lang="fr-FR" sz="1500" spc="-1" strike="noStrike" u="sng">
                <a:solidFill>
                  <a:srgbClr val="404040"/>
                </a:solidFill>
                <a:uFillTx/>
                <a:latin typeface="Trebuchet MS"/>
                <a:ea typeface="Microsoft YaHei"/>
              </a:rPr>
              <a:t>arrêtée</a:t>
            </a:r>
            <a:r>
              <a:rPr b="0" lang="fr-FR" sz="1500" spc="-1" strike="noStrike" u="sng">
                <a:solidFill>
                  <a:srgbClr val="404040"/>
                </a:solidFill>
                <a:uFillTx/>
                <a:latin typeface="Trebuchet MS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lvl="1" marL="7412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Tous les adversaires à plus de 5 mètres, les partenaires peuvent être juste à côté.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lvl="1" marL="7412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Dans les 23m, les adversaires et partenaires doivent se trouver à plus de 5m, et la balle doit faire au moins 5 mètres avant d’être envoyée dans le cercle.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lvl="1" marL="741240" indent="-284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Une faute sifflée proche du cercle doit être jouée à 5m de celui-ci (sur les pointillés).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961320" y="429264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Indiquer avec le bras le sens dans lequel il faut jou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7248600" y="1197000"/>
            <a:ext cx="2946240" cy="29034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488960" y="836640"/>
            <a:ext cx="61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coups de pénalité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coup franc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696960" y="2276640"/>
            <a:ext cx="418464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Pourquoi ?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Pour une faute </a:t>
            </a:r>
            <a:r>
              <a:rPr b="1" lang="fr-FR" sz="1600" spc="-1" strike="noStrike" u="sng">
                <a:solidFill>
                  <a:srgbClr val="404040"/>
                </a:solidFill>
                <a:uFillTx/>
                <a:latin typeface="Trebuchet MS"/>
                <a:ea typeface="Microsoft YaHei"/>
              </a:rPr>
              <a:t>volontaire</a:t>
            </a: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dans les 23m mais en dehors du cercle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Pour une faute </a:t>
            </a:r>
            <a:r>
              <a:rPr b="1" lang="fr-FR" sz="1600" spc="-1" strike="noStrike" u="sng">
                <a:solidFill>
                  <a:srgbClr val="404040"/>
                </a:solidFill>
                <a:uFillTx/>
                <a:latin typeface="Trebuchet MS"/>
                <a:ea typeface="Microsoft YaHei"/>
              </a:rPr>
              <a:t>involontaire</a:t>
            </a: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dans le cercle qui n’empêche pas un but d’être mi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Pour une balle sortie </a:t>
            </a:r>
            <a:r>
              <a:rPr b="1" lang="fr-FR" sz="1600" spc="-1" strike="noStrike" u="sng">
                <a:solidFill>
                  <a:srgbClr val="404040"/>
                </a:solidFill>
                <a:uFillTx/>
                <a:latin typeface="Trebuchet MS"/>
                <a:ea typeface="Microsoft YaHei"/>
              </a:rPr>
              <a:t>volontairement</a:t>
            </a: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par un défenseur derrière la ligne de fond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816600" y="4076640"/>
            <a:ext cx="41864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Pointer les bras parallèles vers le haut du bu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7597800" y="1197000"/>
            <a:ext cx="2536920" cy="26510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"/>
          <p:cNvSpPr/>
          <p:nvPr/>
        </p:nvSpPr>
        <p:spPr>
          <a:xfrm>
            <a:off x="1488960" y="836640"/>
            <a:ext cx="61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coups de pénalité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petit corn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344600" y="1484280"/>
            <a:ext cx="41846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La balle est donnée à partir d’un point situé à 10m du but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5 défenseurs (je rappelle que le gardien est un défenseur) placés derrière la ligne de but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Les attaquants doivent se trouver en dehors du cercle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Attendre que l’arbitre ait baissé le bra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La balle doit sortir du cercle avant un premier envoi vers le but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Si le premier envoi est un shoot, il ne peut pas dépasser la hauteur de la planche du but. Toutefois, la balle peut être levée par une déviation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0" t="0" r="0" b="8272"/>
          <a:stretch/>
        </p:blipFill>
        <p:spPr>
          <a:xfrm>
            <a:off x="6816600" y="1700280"/>
            <a:ext cx="3719520" cy="3095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"/>
          <p:cNvSpPr/>
          <p:nvPr/>
        </p:nvSpPr>
        <p:spPr>
          <a:xfrm>
            <a:off x="1488960" y="836640"/>
            <a:ext cx="61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coups de pénalité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petit corn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76440" y="2736720"/>
            <a:ext cx="418464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Pourquoi ?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Une faute volontaire commise dans le cercle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Une faute involontaire qui empêche un but d’être mi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Le temps est arrêté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8977320" y="1268280"/>
            <a:ext cx="2114640" cy="3332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"/>
          <p:cNvSpPr/>
          <p:nvPr/>
        </p:nvSpPr>
        <p:spPr>
          <a:xfrm>
            <a:off x="1488960" y="836640"/>
            <a:ext cx="61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coups de pénalité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pénalty Stroke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448240" y="4221000"/>
            <a:ext cx="4186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Pointer un doigt en l’air et l’autre vers le point de stroke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1560600" y="1940040"/>
            <a:ext cx="4184640" cy="43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La balle est jouée sur le point de stroke. (6m40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Seuls le tireur, le gardien et l’arbitre sont dans le cercle ; les autres joueurs sont derrière la ligne des 23 mètre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Le gardien doit être sur la ligne de but et ne peut bouger qu’après l’envoi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La balle est jouée après le coup de sifflet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Elle peut être poussée ou soulevée (en aucun cas frappée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rcRect l="0" t="0" r="0" b="5881"/>
          <a:stretch/>
        </p:blipFill>
        <p:spPr>
          <a:xfrm>
            <a:off x="6600960" y="1484280"/>
            <a:ext cx="3070080" cy="3456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"/>
          <p:cNvSpPr/>
          <p:nvPr/>
        </p:nvSpPr>
        <p:spPr>
          <a:xfrm>
            <a:off x="1488960" y="836640"/>
            <a:ext cx="61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coups de pénalité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pénalty Stroke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77880" y="57456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cartons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071880" y="1844640"/>
            <a:ext cx="418464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Vert :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Simple avertissement. </a:t>
            </a:r>
            <a:r>
              <a:rPr b="0" lang="fr-FR" sz="1600" spc="-1" strike="noStrike">
                <a:solidFill>
                  <a:srgbClr val="4d4d4d"/>
                </a:solidFill>
                <a:latin typeface="Trebuchet MS"/>
                <a:ea typeface="Microsoft YaHei"/>
              </a:rPr>
              <a:t>Exclusion temporaire de 2’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Jaune :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Exclusion temporaire de 5’ MINIMUM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Rouge :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Exclusion définitive du terrain, il faut aller aux vestiaire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rcRect l="0" t="0" r="50756" b="52974"/>
          <a:stretch/>
        </p:blipFill>
        <p:spPr>
          <a:xfrm>
            <a:off x="1704960" y="2997360"/>
            <a:ext cx="1008000" cy="96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rcRect l="50386" t="0" r="0" b="52974"/>
          <a:stretch/>
        </p:blipFill>
        <p:spPr>
          <a:xfrm>
            <a:off x="1776240" y="1557360"/>
            <a:ext cx="1063800" cy="100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rcRect l="23488" t="47043" r="26075" b="0"/>
          <a:stretch/>
        </p:blipFill>
        <p:spPr>
          <a:xfrm>
            <a:off x="1776240" y="4437000"/>
            <a:ext cx="1013040" cy="1063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4"/>
          <a:stretch/>
        </p:blipFill>
        <p:spPr>
          <a:xfrm>
            <a:off x="8040600" y="2133720"/>
            <a:ext cx="2808360" cy="1404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1055520" y="2781360"/>
            <a:ext cx="8596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BUUUUUUT !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07880" y="43657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2"/>
          <a:stretch/>
        </p:blipFill>
        <p:spPr>
          <a:xfrm>
            <a:off x="8329680" y="83664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1847880" y="836640"/>
            <a:ext cx="2562120" cy="1781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"/>
          <p:cNvPicPr/>
          <p:nvPr/>
        </p:nvPicPr>
        <p:blipFill>
          <a:blip r:embed="rId4"/>
          <a:stretch/>
        </p:blipFill>
        <p:spPr>
          <a:xfrm>
            <a:off x="4800600" y="436572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696960" y="3213000"/>
            <a:ext cx="418464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Un but est inscrit lorsque la balle a complètement franchi la ligne de but après avoir été touchée par une crosse attaquante dans la zone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448240" y="479736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Pointer les mains vers le centre du terrain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7969320" y="1052640"/>
            <a:ext cx="3233520" cy="30337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1488960" y="836640"/>
            <a:ext cx="61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a validité du but :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 but marqué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6"/>
          <p:cNvSpPr/>
          <p:nvPr/>
        </p:nvSpPr>
        <p:spPr>
          <a:xfrm>
            <a:off x="3284640" y="3860640"/>
            <a:ext cx="47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</a:rPr>
              <a:t>Ligue Midi- Pyrénées de Hockey sur gazo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3274920" y="836640"/>
            <a:ext cx="496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</a:rPr>
              <a:t>Ce livret d’initiation aux règles de l’arbitrage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</a:rPr>
              <a:t>du Hockey sur Gazon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</a:rPr>
              <a:t>vous est offert par la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865760" y="1892160"/>
            <a:ext cx="178128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2565360"/>
            <a:ext cx="859644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4 x 17mn30 (à partir des – 19 ans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2 x 35’ (à partir des – 16 ans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2 x 30’ (-14 ans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2 x 25’ (-12 ans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2 x 20’ (-10 ans et -8 ans 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39800"/>
                <a:tab algn="l" pos="1187280"/>
                <a:tab algn="l" pos="1636560"/>
                <a:tab algn="l" pos="2085840"/>
                <a:tab algn="l" pos="2535120"/>
                <a:tab algn="l" pos="2984400"/>
                <a:tab algn="l" pos="3433680"/>
                <a:tab algn="l" pos="3882960"/>
                <a:tab algn="l" pos="4332240"/>
                <a:tab algn="l" pos="4781520"/>
                <a:tab algn="l" pos="5230800"/>
                <a:tab algn="l" pos="5680080"/>
                <a:tab algn="l" pos="6129360"/>
                <a:tab algn="l" pos="6578640"/>
                <a:tab algn="l" pos="7027920"/>
                <a:tab algn="l" pos="7477200"/>
                <a:tab algn="l" pos="7926480"/>
                <a:tab algn="l" pos="8375760"/>
                <a:tab algn="l" pos="8825040"/>
                <a:tab algn="l" pos="9274320"/>
                <a:tab algn="l" pos="972360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  <a:ea typeface="Microsoft YaHei"/>
              </a:rPr>
              <a:t>Le temps est arrêté si besoin, Il n’y a donc pas de temps additionnel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Text Box 1"/>
          <p:cNvSpPr/>
          <p:nvPr/>
        </p:nvSpPr>
        <p:spPr>
          <a:xfrm>
            <a:off x="3505320" y="692280"/>
            <a:ext cx="3854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a gestion du temps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urée des rencontr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8113680" y="765000"/>
            <a:ext cx="2867040" cy="1590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847880" y="5300640"/>
            <a:ext cx="8596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rebuchet MS"/>
              </a:rPr>
              <a:t>Croiser les mains au dessus de la têt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7608960" y="1484280"/>
            <a:ext cx="2386080" cy="337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92240" y="254808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3432240" y="2852640"/>
            <a:ext cx="3024000" cy="2121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"/>
          <p:cNvSpPr/>
          <p:nvPr/>
        </p:nvSpPr>
        <p:spPr>
          <a:xfrm>
            <a:off x="2855880" y="549360"/>
            <a:ext cx="38545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a gestion du temps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rrêt du temp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817760" y="6937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cc00"/>
                </a:solidFill>
                <a:uFillTx/>
                <a:latin typeface="Trebuchet MS"/>
              </a:rPr>
              <a:t>Le geste arbitra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44880" y="294948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200" spc="-1" strike="noStrike">
                <a:solidFill>
                  <a:srgbClr val="990033"/>
                </a:solidFill>
                <a:latin typeface="Trebuchet MS"/>
              </a:rPr>
              <a:t>Exemple : Blessure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07880" y="213372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Pour entamer le match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Pour reprendre après la mi-temps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Pour reprendre après un but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3360600" y="836640"/>
            <a:ext cx="38545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a mise en jeu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Balle au centr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>
            <a:lum bright="30000"/>
          </a:blip>
          <a:srcRect l="0" t="0" r="0" b="5831"/>
          <a:stretch/>
        </p:blipFill>
        <p:spPr>
          <a:xfrm>
            <a:off x="5016600" y="2997360"/>
            <a:ext cx="331452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9480600" y="907920"/>
            <a:ext cx="1224000" cy="119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8040600" y="765000"/>
            <a:ext cx="1114560" cy="1409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8906040" y="2276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Une balle pèse de 156 à 164 gr et a un diamètre de 7,13 à 7,5 cm.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23880" y="2637000"/>
            <a:ext cx="859644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La balle est mise en jeu au milieu de la ligne médiane.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Tous les joueurs doivent être dans leur moitié de terrain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Les adversaires doivent être à plus de 5 mètres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On joue au coup de sifflet de l’arbitre (et pas avant !)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La balle peut être poussée ou frappée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On peut partir de tous les côtés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On peut jouer seul (auto-passe)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Text Box 1"/>
          <p:cNvSpPr/>
          <p:nvPr/>
        </p:nvSpPr>
        <p:spPr>
          <a:xfrm>
            <a:off x="3360600" y="836640"/>
            <a:ext cx="38545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a mise en jeu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Où et comment ?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rcRect l="28214" t="320" r="7818" b="25950"/>
          <a:stretch/>
        </p:blipFill>
        <p:spPr>
          <a:xfrm>
            <a:off x="7680240" y="2276640"/>
            <a:ext cx="2281320" cy="259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>
            <a:lum bright="30000"/>
          </a:blip>
          <a:srcRect l="8715" t="0" r="19645" b="5831"/>
          <a:stretch/>
        </p:blipFill>
        <p:spPr>
          <a:xfrm>
            <a:off x="9408960" y="907920"/>
            <a:ext cx="1438560" cy="1325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0" y="2565360"/>
            <a:ext cx="76122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990033"/>
                </a:solidFill>
                <a:latin typeface="Trebuchet MS"/>
              </a:rPr>
              <a:t>Règles spécifiques aux gardiens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424240" y="4437000"/>
            <a:ext cx="3097080" cy="181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8491680" y="765000"/>
            <a:ext cx="2652480" cy="3240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176960" y="692280"/>
            <a:ext cx="1114560" cy="140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8906040" y="400536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Trebuchet MS"/>
              </a:rPr>
              <a:t>Seul le gardien bénéficie d’un équipement spécifique de protection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77880" y="2160720"/>
            <a:ext cx="418320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Arrêter la balle avec la main ou avec le corps.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Shooter la balle du pied sans la rendre dangereuse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840" indent="-339840">
              <a:spcBef>
                <a:spcPts val="1001"/>
              </a:spcBef>
              <a:buClr>
                <a:srgbClr val="003366"/>
              </a:buClr>
              <a:buFont typeface="Wingdings 3" charset="2"/>
              <a:buChar char="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Arrêter la balle au dessus des épaules avec la crosse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024600" y="1916280"/>
            <a:ext cx="3717720" cy="302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"/>
          <p:cNvSpPr/>
          <p:nvPr/>
        </p:nvSpPr>
        <p:spPr>
          <a:xfrm>
            <a:off x="1560600" y="765000"/>
            <a:ext cx="97930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500" spc="-1" strike="noStrike">
                <a:solidFill>
                  <a:srgbClr val="ff9900"/>
                </a:solidFill>
                <a:latin typeface="Trebuchet MS"/>
              </a:rPr>
              <a:t>Les règles spécifiques aux gardiens</a:t>
            </a:r>
            <a:endParaRPr b="0" lang="en-US" sz="45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es gestes autorisés uniquement dans le cercle!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3T13:24:41Z</dcterms:created>
  <dc:creator>Marie Anne</dc:creator>
  <dc:description/>
  <dc:language>en-US</dc:language>
  <cp:lastModifiedBy>Yves REGNIEZ</cp:lastModifiedBy>
  <dcterms:modified xsi:type="dcterms:W3CDTF">2016-05-30T21:12:46Z</dcterms:modified>
  <cp:revision>93</cp:revision>
  <dc:subject/>
  <dc:title>Présentation PowerPoint</dc:title>
</cp:coreProperties>
</file>